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E04790-E9A1-44C4-B9FE-B3DC41AFEE1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655C2A-5CBA-4794-BD82-B5B13A8FB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511CC0-FE27-41A1-81B4-015C20C14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0832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1964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29700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0832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1964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505266-4BC2-4C48-AFD8-C8B59E36923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25520" y="1182600"/>
            <a:ext cx="807696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294FC7-DA59-4C11-BAE1-0FDDC9FC0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0832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11964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29700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0832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11964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A2818-7E73-4863-83A5-2146EE3D3C6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CD6AF-F772-41B4-AD2E-9A0E4B02D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089A8-FCD3-4C46-A569-233C9A90C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CC692-995A-44E1-80D2-ACFC8BAAC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AD420-9374-45DB-A81D-DC175E61A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E4BE24-08E3-471E-88D6-24B1C0A9F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25520" y="1182600"/>
            <a:ext cx="807696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093E1-1D4E-4E1B-8086-4CF7FF429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07BBF-9E15-4FBC-85C6-38220D407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891A4-FA1B-4A29-9B0C-5D6DA18B0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AEA5C-6193-46C3-AE87-92D13664E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7C7CA-2C48-4989-AB25-DB1B47D61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7DB38-5FEE-4AED-9B75-81D72DE41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0832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11964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29700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0832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11964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C811B-CC64-4BB4-8701-08B293CE6A3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CD71CC2-2633-44B3-B45B-720D01041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0727F7C-7C4F-4003-B8BA-F3E0CCCF0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7AEDC57-6961-4BE6-A7CE-3506F2121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EFF9C9-9AF7-4A80-BD39-837F52B69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BCCFA96-58CF-4F10-BA17-56E520C47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2ACE2A9-5A27-4BE9-89CB-377B19E34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25520" y="1182600"/>
            <a:ext cx="807696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4D64BF8-0D46-404F-8FDE-E10E9A8AD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CEFE229-8367-4BEC-A459-E935AA7C8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86A0BDC-9369-4774-B746-4F5B05924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82E4851-8C95-4696-80F4-F47DAF156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DFF2EA3-E11D-441E-94F1-7D9DDED2C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6504C37-6D4E-4498-8F5D-65A2734F0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0832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11964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29700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0832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11964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1915E7B-6614-4A6A-8365-6054ECD5E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8550F30-22A7-408A-B853-F5DE0616E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C4832F-ACCD-460F-8A35-A55732A2A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E22ED8B-4DD9-4362-B443-22464408E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0BD11C0-782C-4523-8AF4-67E40A0A5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58449D6-136B-41D4-85E0-0418652B1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0C566B4-773B-48B2-B7B7-90A4D6A89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425520" y="1182600"/>
            <a:ext cx="807696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83B087A-3B58-4F1C-BD46-8046096AA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73CBBC5-401F-4033-8686-831055A82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CDB1C6D-7387-46A9-91FB-EC4CA426E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FDB17EC-F86C-4BFD-BEF2-B2F628DE4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E06C493-263A-4324-99B3-62B9CF17C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A8A5ED0-8DF1-43FD-A378-75256BA68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25520" y="1182600"/>
            <a:ext cx="807696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AEF862-D94B-405D-B440-3A828E0CD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20832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1964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9700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20832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1964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680048C-C3D4-485D-8B61-521DD0E7B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32CB86-71A1-4BF0-82E0-E54E0208D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F84563-8B4C-485F-94DC-EB6C21765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36232E-A4D6-422D-A6C7-341550B8E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Click to edit the outline text format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con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Thir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3" marL="16002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our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4" marL="20574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if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ix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ven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DD2CC-875C-42EF-9707-7B69604DAD4E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425520" y="118260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42840" y="0"/>
            <a:ext cx="9144000" cy="2089080"/>
            <a:chOff x="4284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71280" y="0"/>
              <a:ext cx="9115560" cy="1790640"/>
              <a:chOff x="7128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7128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7128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4284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8160" y="2491920"/>
            <a:ext cx="8077320" cy="224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07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08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2257B-E3BB-4A83-96AD-83AC7D1BB1F2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0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1" name="Picture 10" descr=""/>
          <p:cNvPicPr/>
          <p:nvPr/>
        </p:nvPicPr>
        <p:blipFill>
          <a:blip r:embed="rId4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body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Click to edit the outline text format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con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Thir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3" marL="16002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our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4" marL="20574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if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ix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ven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425520" y="118260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sldNum" idx="3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3C262-E128-4C7F-9A06-27F2CE0B32A4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dt" idx="4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6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body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Click to edit the outline text format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con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Thir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3" marL="16002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our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4" marL="20574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if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ix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ven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title"/>
          </p:nvPr>
        </p:nvSpPr>
        <p:spPr>
          <a:xfrm>
            <a:off x="425520" y="118260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dt" idx="5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sldNum" idx="7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43568-4C7E-4417-B802-16C826CED7A8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99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02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body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Click to edit the outline text format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con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Thir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3" marL="16002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our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4" marL="20574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if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ix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ven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title"/>
          </p:nvPr>
        </p:nvSpPr>
        <p:spPr>
          <a:xfrm>
            <a:off x="425520" y="118260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dt" idx="8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 type="ftr" idx="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 type="sldNum" idx="10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67C5D-4A96-404E-A747-692DF703227E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4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4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4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4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2"/>
          <p:cNvSpPr/>
          <p:nvPr/>
        </p:nvSpPr>
        <p:spPr>
          <a:xfrm>
            <a:off x="-1746360" y="1773360"/>
            <a:ext cx="8496360" cy="30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r>
              <a:rPr b="1" lang="zh-CN" sz="66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三节  </a:t>
            </a:r>
            <a:endParaRPr b="0" lang="en-US" sz="6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ff"/>
                </a:solidFill>
                <a:latin typeface="华文新魏"/>
                <a:ea typeface="华文新魏"/>
              </a:rPr>
              <a:t>脑性瘫痪</a:t>
            </a:r>
            <a:r>
              <a:rPr b="0" lang="zh-CN" sz="6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br>
              <a:rPr sz="6600"/>
            </a:br>
            <a:endParaRPr b="0" lang="en-US" sz="6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矩形 1"/>
          <p:cNvSpPr/>
          <p:nvPr/>
        </p:nvSpPr>
        <p:spPr>
          <a:xfrm>
            <a:off x="808200" y="1197000"/>
            <a:ext cx="70578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华文楷体"/>
                <a:ea typeface="华文楷体"/>
              </a:rPr>
              <a:t>案例</a:t>
            </a:r>
            <a:r>
              <a:rPr b="1" lang="en-US" sz="2800" spc="-1" strike="noStrike">
                <a:solidFill>
                  <a:srgbClr val="c00000"/>
                </a:solidFill>
                <a:latin typeface="华文楷体"/>
                <a:ea typeface="华文楷体"/>
              </a:rPr>
              <a:t>6-3 A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楷体"/>
                <a:ea typeface="华文楷体"/>
              </a:rPr>
              <a:t>患儿，男，</a:t>
            </a:r>
            <a:r>
              <a:rPr b="1" lang="en-US" sz="2800" spc="-1" strike="noStrike">
                <a:solidFill>
                  <a:srgbClr val="046ca6"/>
                </a:solidFill>
                <a:latin typeface="华文楷体"/>
                <a:ea typeface="华文楷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华文楷体"/>
                <a:ea typeface="华文楷体"/>
              </a:rPr>
              <a:t>岁，</a:t>
            </a:r>
            <a:r>
              <a:rPr b="1" lang="en-US" sz="2800" spc="-1" strike="noStrike">
                <a:solidFill>
                  <a:srgbClr val="046ca6"/>
                </a:solidFill>
                <a:latin typeface="华文楷体"/>
                <a:ea typeface="华文楷体"/>
              </a:rPr>
              <a:t>32</a:t>
            </a:r>
            <a:r>
              <a:rPr b="1" lang="zh-CN" sz="2800" spc="-1" strike="noStrike">
                <a:solidFill>
                  <a:srgbClr val="046ca6"/>
                </a:solidFill>
                <a:latin typeface="华文楷体"/>
                <a:ea typeface="华文楷体"/>
              </a:rPr>
              <a:t>周出生，生后出现黄疸，持续</a:t>
            </a:r>
            <a:r>
              <a:rPr b="1" lang="en-US" sz="2800" spc="-1" strike="noStrike">
                <a:solidFill>
                  <a:srgbClr val="046ca6"/>
                </a:solidFill>
                <a:latin typeface="华文楷体"/>
                <a:ea typeface="华文楷体"/>
              </a:rPr>
              <a:t>17</a:t>
            </a:r>
            <a:r>
              <a:rPr b="1" lang="zh-CN" sz="2800" spc="-1" strike="noStrike">
                <a:solidFill>
                  <a:srgbClr val="046ca6"/>
                </a:solidFill>
                <a:latin typeface="华文楷体"/>
                <a:ea typeface="华文楷体"/>
              </a:rPr>
              <a:t>天。现运动发育落后，竖颈（</a:t>
            </a:r>
            <a:r>
              <a:rPr b="1" lang="en-US" sz="2800" spc="-1" strike="noStrike">
                <a:solidFill>
                  <a:srgbClr val="046ca6"/>
                </a:solidFill>
                <a:latin typeface="华文楷体"/>
                <a:ea typeface="华文楷体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华文楷体"/>
                <a:ea typeface="华文楷体"/>
              </a:rPr>
              <a:t>），翻身（</a:t>
            </a:r>
            <a:r>
              <a:rPr b="1" lang="en-US" sz="2800" spc="-1" strike="noStrike">
                <a:solidFill>
                  <a:srgbClr val="046ca6"/>
                </a:solidFill>
                <a:latin typeface="华文楷体"/>
                <a:ea typeface="华文楷体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华文楷体"/>
                <a:ea typeface="华文楷体"/>
              </a:rPr>
              <a:t>），角弓反张；原始反射残存非对称性颈紧张反射（</a:t>
            </a:r>
            <a:r>
              <a:rPr b="1" lang="en-US" sz="2800" spc="-1" strike="noStrike">
                <a:solidFill>
                  <a:srgbClr val="046ca6"/>
                </a:solidFill>
                <a:latin typeface="华文楷体"/>
                <a:ea typeface="华文楷体"/>
              </a:rPr>
              <a:t>+</a:t>
            </a:r>
            <a:r>
              <a:rPr b="1" lang="zh-CN" sz="2800" spc="-1" strike="noStrike">
                <a:solidFill>
                  <a:srgbClr val="046ca6"/>
                </a:solidFill>
                <a:latin typeface="华文楷体"/>
                <a:ea typeface="华文楷体"/>
              </a:rPr>
              <a:t>），侧弯反射（</a:t>
            </a:r>
            <a:r>
              <a:rPr b="1" lang="en-US" sz="2800" spc="-1" strike="noStrike">
                <a:solidFill>
                  <a:srgbClr val="046ca6"/>
                </a:solidFill>
                <a:latin typeface="华文楷体"/>
                <a:ea typeface="华文楷体"/>
              </a:rPr>
              <a:t>+</a:t>
            </a:r>
            <a:r>
              <a:rPr b="1" lang="zh-CN" sz="2800" spc="-1" strike="noStrike">
                <a:solidFill>
                  <a:srgbClr val="046ca6"/>
                </a:solidFill>
                <a:latin typeface="华文楷体"/>
                <a:ea typeface="华文楷体"/>
              </a:rPr>
              <a:t>）；流涎，吞咽及咀嚼困难，发音障碍；睡眠不佳，便秘。患儿自</a:t>
            </a:r>
            <a:r>
              <a:rPr b="1" lang="en-US" sz="2800" spc="-1" strike="noStrike">
                <a:solidFill>
                  <a:srgbClr val="046ca6"/>
                </a:solidFill>
                <a:latin typeface="华文楷体"/>
                <a:ea typeface="华文楷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华文楷体"/>
                <a:ea typeface="华文楷体"/>
              </a:rPr>
              <a:t>岁半开始出现癫痫发作，脑电图检查示：双侧对称同步尖慢波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华文楷体"/>
                <a:ea typeface="华文楷体"/>
              </a:rPr>
              <a:t>问题与思考</a:t>
            </a:r>
            <a:r>
              <a:rPr b="1" lang="zh-CN" sz="2800" spc="-1" strike="noStrike">
                <a:solidFill>
                  <a:srgbClr val="046ca6"/>
                </a:solidFill>
                <a:latin typeface="华文楷体"/>
                <a:ea typeface="华文楷体"/>
              </a:rPr>
              <a:t>：该患儿存在哪些功能障碍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5" name="Rectangle 5"/>
          <p:cNvSpPr/>
          <p:nvPr/>
        </p:nvSpPr>
        <p:spPr>
          <a:xfrm>
            <a:off x="571680" y="571680"/>
            <a:ext cx="6000480" cy="5918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二、主要功能障碍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71680" y="571680"/>
            <a:ext cx="6000480" cy="5918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二、主要功能障碍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97" name="Rectangle 3"/>
          <p:cNvSpPr/>
          <p:nvPr/>
        </p:nvSpPr>
        <p:spPr>
          <a:xfrm>
            <a:off x="826920" y="1700280"/>
            <a:ext cx="763272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447840">
              <a:lnSpc>
                <a:spcPct val="110000"/>
              </a:lnSpc>
              <a:spcBef>
                <a:spcPts val="799"/>
              </a:spcBef>
              <a:buClr>
                <a:srgbClr val="8ac8d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47840" indent="-447840">
              <a:lnSpc>
                <a:spcPct val="110000"/>
              </a:lnSpc>
              <a:spcBef>
                <a:spcPts val="799"/>
              </a:spcBef>
              <a:buClr>
                <a:srgbClr val="8ac8d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8" name="Rectangle 3"/>
          <p:cNvSpPr/>
          <p:nvPr/>
        </p:nvSpPr>
        <p:spPr>
          <a:xfrm>
            <a:off x="900000" y="2205000"/>
            <a:ext cx="74916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ts val="4598"/>
              </a:lnSpc>
              <a:spcBef>
                <a:spcPts val="901"/>
              </a:spcBef>
              <a:buClr>
                <a:srgbClr val="99669b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中枢性运动障碍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4598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46ca6"/>
                </a:solidFill>
                <a:latin typeface="华文新魏"/>
                <a:ea typeface="华文新魏"/>
              </a:rPr>
              <a:t>　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4598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4598"/>
              </a:lnSpc>
              <a:spcBef>
                <a:spcPts val="901"/>
              </a:spcBef>
              <a:buClr>
                <a:srgbClr val="99669b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伴随障碍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4598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9" name="AutoShape 6"/>
          <p:cNvSpPr/>
          <p:nvPr/>
        </p:nvSpPr>
        <p:spPr>
          <a:xfrm>
            <a:off x="4748040" y="1484280"/>
            <a:ext cx="4381560" cy="2651040"/>
          </a:xfrm>
          <a:prstGeom prst="wedgeRectCallout">
            <a:avLst>
              <a:gd name="adj1" fmla="val -55208"/>
              <a:gd name="adj2" fmla="val 171"/>
            </a:avLst>
          </a:prstGeom>
          <a:solidFill>
            <a:srgbClr val="cfeaf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9669b"/>
                </a:solidFill>
                <a:latin typeface="华文新魏"/>
                <a:ea typeface="华文新魏"/>
              </a:rPr>
              <a:t>痉挛型：</a:t>
            </a:r>
            <a:r>
              <a:rPr b="1" lang="zh-CN" sz="1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偏瘫、双瘫、四肢瘫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9669b"/>
                </a:solidFill>
                <a:latin typeface="华文新魏"/>
                <a:ea typeface="华文新魏"/>
              </a:rPr>
              <a:t>不随意运动型：</a:t>
            </a:r>
            <a:r>
              <a:rPr b="1" lang="zh-CN" sz="18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不自主无意识运动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9669b"/>
                </a:solidFill>
                <a:latin typeface="华文新魏"/>
                <a:ea typeface="华文新魏"/>
              </a:rPr>
              <a:t>共济失调型：</a:t>
            </a:r>
            <a:r>
              <a:rPr b="1" lang="zh-CN" sz="1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平衡障碍，肌张力低下，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9669b"/>
                </a:solidFill>
                <a:latin typeface="华文新魏"/>
                <a:ea typeface="华文新魏"/>
              </a:rPr>
              <a:t>强直型：</a:t>
            </a:r>
            <a:r>
              <a:rPr b="1" lang="zh-CN" sz="1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扭转痉挛或强直，常伴智力低下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9669b"/>
                </a:solidFill>
                <a:latin typeface="华文新魏"/>
                <a:ea typeface="华文新魏"/>
              </a:rPr>
              <a:t>肌张力低下型：</a:t>
            </a:r>
            <a:r>
              <a:rPr b="1" lang="zh-CN" sz="1800" spc="-1" strike="noStrike">
                <a:solidFill>
                  <a:srgbClr val="046ca6"/>
                </a:solidFill>
                <a:latin typeface="华文新魏"/>
                <a:ea typeface="华文新魏"/>
              </a:rPr>
              <a:t>肌张力低下为显著特征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9669b"/>
                </a:solidFill>
                <a:latin typeface="华文新魏"/>
                <a:ea typeface="华文新魏"/>
              </a:rPr>
              <a:t>混合型：</a:t>
            </a:r>
            <a:r>
              <a:rPr b="1" lang="zh-CN" sz="18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两种或两种症状同时存在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0" name="AutoShape 7"/>
          <p:cNvSpPr/>
          <p:nvPr/>
        </p:nvSpPr>
        <p:spPr>
          <a:xfrm>
            <a:off x="3924360" y="4365720"/>
            <a:ext cx="3240000" cy="1366920"/>
          </a:xfrm>
          <a:prstGeom prst="wedgeRectCallout">
            <a:avLst>
              <a:gd name="adj1" fmla="val -62087"/>
              <a:gd name="adj2" fmla="val -33245"/>
            </a:avLst>
          </a:prstGeom>
          <a:solidFill>
            <a:srgbClr val="cfeaf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华文新魏"/>
              </a:rPr>
              <a:t>语言、听觉、视觉、行为障碍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华文新魏"/>
              </a:rPr>
              <a:t>癫痫、智能、情绪问题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华文新魏"/>
              </a:rPr>
              <a:t>其他感觉和认知功能障碍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矩形 1"/>
          <p:cNvSpPr/>
          <p:nvPr/>
        </p:nvSpPr>
        <p:spPr>
          <a:xfrm>
            <a:off x="468360" y="1197000"/>
            <a:ext cx="8280360" cy="29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楷体"/>
                <a:ea typeface="楷体"/>
              </a:rPr>
              <a:t>知识链接</a:t>
            </a:r>
            <a:r>
              <a:rPr b="1" lang="en-US" sz="2800" spc="-1" strike="noStrike">
                <a:solidFill>
                  <a:srgbClr val="03517d"/>
                </a:solidFill>
                <a:latin typeface="楷体"/>
                <a:ea typeface="楷体"/>
              </a:rPr>
              <a:t>     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          </a:t>
            </a:r>
            <a:r>
              <a:rPr b="1" lang="zh-CN" sz="3600" spc="-1" strike="noStrike">
                <a:solidFill>
                  <a:srgbClr val="c00000"/>
                </a:solidFill>
                <a:latin typeface="楷体"/>
                <a:ea typeface="楷体"/>
              </a:rPr>
              <a:t>非对称性紧张性颈反射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    </a:t>
            </a:r>
            <a:r>
              <a:rPr b="1" lang="zh-CN" sz="2800" spc="-1" strike="noStrike">
                <a:solidFill>
                  <a:srgbClr val="692aa2"/>
                </a:solidFill>
                <a:latin typeface="楷体"/>
                <a:ea typeface="楷体"/>
              </a:rPr>
              <a:t>非对称性紧张性颈反射</a:t>
            </a:r>
            <a:r>
              <a:rPr b="1" lang="en-US" sz="2800" spc="-1" strike="noStrike">
                <a:solidFill>
                  <a:srgbClr val="692aa2"/>
                </a:solidFill>
                <a:latin typeface="楷体"/>
                <a:ea typeface="楷体"/>
              </a:rPr>
              <a:t>(asymmetrical tonic neck reflex, ATNR)</a:t>
            </a:r>
            <a:r>
              <a:rPr b="1" lang="zh-CN" sz="2800" spc="-1" strike="noStrike">
                <a:solidFill>
                  <a:srgbClr val="692aa2"/>
                </a:solidFill>
                <a:latin typeface="楷体"/>
                <a:ea typeface="楷体"/>
              </a:rPr>
              <a:t> </a:t>
            </a:r>
            <a:r>
              <a:rPr b="1" lang="zh-CN" sz="2800" spc="-1" strike="noStrike">
                <a:solidFill>
                  <a:srgbClr val="692aa2"/>
                </a:solidFill>
                <a:latin typeface="楷体"/>
                <a:ea typeface="楷体"/>
              </a:rPr>
              <a:t>：小儿仰卧，头居中，四肢伸展位，当旋转头部时，阳性表现为颜面侧上、下肢伸肌张力增高成伸展位，后头侧屈肌张力增强，上、下肢屈曲。正常</a:t>
            </a:r>
            <a:r>
              <a:rPr b="1" lang="en-US" sz="2800" spc="-1" strike="noStrike">
                <a:solidFill>
                  <a:srgbClr val="692aa2"/>
                </a:solidFill>
                <a:latin typeface="楷体"/>
                <a:ea typeface="楷体"/>
              </a:rPr>
              <a:t>3</a:t>
            </a:r>
            <a:r>
              <a:rPr b="1" lang="zh-CN" sz="2800" spc="-1" strike="noStrike">
                <a:solidFill>
                  <a:srgbClr val="692aa2"/>
                </a:solidFill>
                <a:latin typeface="楷体"/>
                <a:ea typeface="楷体"/>
              </a:rPr>
              <a:t>～</a:t>
            </a:r>
            <a:r>
              <a:rPr b="1" lang="en-US" sz="2800" spc="-1" strike="noStrike">
                <a:solidFill>
                  <a:srgbClr val="692aa2"/>
                </a:solidFill>
                <a:latin typeface="楷体"/>
                <a:ea typeface="楷体"/>
              </a:rPr>
              <a:t>4</a:t>
            </a:r>
            <a:r>
              <a:rPr b="1" lang="zh-CN" sz="2800" spc="-1" strike="noStrike">
                <a:solidFill>
                  <a:srgbClr val="692aa2"/>
                </a:solidFill>
                <a:latin typeface="楷体"/>
                <a:ea typeface="楷体"/>
              </a:rPr>
              <a:t>月消失，持续阳性阻碍小儿头和四肢运动发育。</a:t>
            </a:r>
            <a:r>
              <a:rPr b="1" lang="en-US" sz="2800" spc="-1" strike="noStrike">
                <a:solidFill>
                  <a:srgbClr val="692aa2"/>
                </a:solidFill>
                <a:latin typeface="楷体"/>
                <a:ea typeface="楷体"/>
              </a:rPr>
              <a:t>ATNR</a:t>
            </a:r>
            <a:r>
              <a:rPr b="1" lang="zh-CN" sz="2800" spc="-1" strike="noStrike">
                <a:solidFill>
                  <a:srgbClr val="692aa2"/>
                </a:solidFill>
                <a:latin typeface="楷体"/>
                <a:ea typeface="楷体"/>
              </a:rPr>
              <a:t>在新生儿出生后</a:t>
            </a:r>
            <a:r>
              <a:rPr b="1" lang="en-US" sz="2800" spc="-1" strike="noStrike">
                <a:solidFill>
                  <a:srgbClr val="692aa2"/>
                </a:solidFill>
                <a:latin typeface="楷体"/>
                <a:ea typeface="楷体"/>
              </a:rPr>
              <a:t>1</a:t>
            </a:r>
            <a:r>
              <a:rPr b="1" lang="zh-CN" sz="2800" spc="-1" strike="noStrike">
                <a:solidFill>
                  <a:srgbClr val="692aa2"/>
                </a:solidFill>
                <a:latin typeface="楷体"/>
                <a:ea typeface="楷体"/>
              </a:rPr>
              <a:t>周左右出现，</a:t>
            </a:r>
            <a:r>
              <a:rPr b="1" lang="en-US" sz="2800" spc="-1" strike="noStrike">
                <a:solidFill>
                  <a:srgbClr val="692aa2"/>
                </a:solidFill>
                <a:latin typeface="楷体"/>
                <a:ea typeface="楷体"/>
              </a:rPr>
              <a:t>2</a:t>
            </a:r>
            <a:r>
              <a:rPr b="1" lang="zh-CN" sz="2800" spc="-1" strike="noStrike">
                <a:solidFill>
                  <a:srgbClr val="692aa2"/>
                </a:solidFill>
                <a:latin typeface="楷体"/>
                <a:ea typeface="楷体"/>
              </a:rPr>
              <a:t>～</a:t>
            </a:r>
            <a:r>
              <a:rPr b="1" lang="en-US" sz="2800" spc="-1" strike="noStrike">
                <a:solidFill>
                  <a:srgbClr val="692aa2"/>
                </a:solidFill>
                <a:latin typeface="楷体"/>
                <a:ea typeface="楷体"/>
              </a:rPr>
              <a:t>3</a:t>
            </a:r>
            <a:r>
              <a:rPr b="1" lang="zh-CN" sz="2800" spc="-1" strike="noStrike">
                <a:solidFill>
                  <a:srgbClr val="692aa2"/>
                </a:solidFill>
                <a:latin typeface="楷体"/>
                <a:ea typeface="楷体"/>
              </a:rPr>
              <a:t>个月呈优势，以后受上位中枢的控制而逐渐消失，若生后</a:t>
            </a:r>
            <a:r>
              <a:rPr b="1" lang="en-US" sz="2800" spc="-1" strike="noStrike">
                <a:solidFill>
                  <a:srgbClr val="692aa2"/>
                </a:solidFill>
                <a:latin typeface="楷体"/>
                <a:ea typeface="楷体"/>
              </a:rPr>
              <a:t>3</a:t>
            </a:r>
            <a:r>
              <a:rPr b="1" lang="zh-CN" sz="2800" spc="-1" strike="noStrike">
                <a:solidFill>
                  <a:srgbClr val="692aa2"/>
                </a:solidFill>
                <a:latin typeface="楷体"/>
                <a:ea typeface="楷体"/>
              </a:rPr>
              <a:t>个月仍然持续存在则为异常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71320" y="571680"/>
            <a:ext cx="7024680" cy="5918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二、主要功能障碍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03" name="灯片编号占位符 5"/>
          <p:cNvSpPr/>
          <p:nvPr/>
        </p:nvSpPr>
        <p:spPr>
          <a:xfrm>
            <a:off x="6588000" y="638172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D0FB6-28D3-47BB-8A71-528D10B59AB0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4" name="Rectangle 3"/>
          <p:cNvSpPr/>
          <p:nvPr/>
        </p:nvSpPr>
        <p:spPr>
          <a:xfrm>
            <a:off x="826920" y="1700280"/>
            <a:ext cx="763272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447840">
              <a:lnSpc>
                <a:spcPct val="110000"/>
              </a:lnSpc>
              <a:spcBef>
                <a:spcPts val="799"/>
              </a:spcBef>
              <a:buClr>
                <a:srgbClr val="8ac8d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47840" indent="-447840">
              <a:lnSpc>
                <a:spcPct val="110000"/>
              </a:lnSpc>
              <a:spcBef>
                <a:spcPts val="799"/>
              </a:spcBef>
              <a:buClr>
                <a:srgbClr val="8ac8d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5" name="Rectangle 3"/>
          <p:cNvSpPr/>
          <p:nvPr/>
        </p:nvSpPr>
        <p:spPr>
          <a:xfrm>
            <a:off x="1116000" y="1628640"/>
            <a:ext cx="74916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ts val="4499"/>
              </a:lnSpc>
              <a:spcBef>
                <a:spcPts val="799"/>
              </a:spcBef>
              <a:buClr>
                <a:srgbClr val="99669b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痉挛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4499"/>
              </a:lnSpc>
              <a:spcBef>
                <a:spcPts val="799"/>
              </a:spcBef>
              <a:buClr>
                <a:srgbClr val="99669b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不随意运动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4499"/>
              </a:lnSpc>
              <a:spcBef>
                <a:spcPts val="799"/>
              </a:spcBef>
              <a:buClr>
                <a:srgbClr val="99669b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共济失调型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4499"/>
              </a:lnSpc>
              <a:spcBef>
                <a:spcPts val="799"/>
              </a:spcBef>
              <a:buClr>
                <a:srgbClr val="99669b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强直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4499"/>
              </a:lnSpc>
              <a:spcBef>
                <a:spcPts val="799"/>
              </a:spcBef>
              <a:buClr>
                <a:srgbClr val="99669b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肌张力低下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4499"/>
              </a:lnSpc>
              <a:spcBef>
                <a:spcPts val="799"/>
              </a:spcBef>
              <a:buClr>
                <a:srgbClr val="99669b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混合型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6" name="AutoShape 6"/>
          <p:cNvSpPr/>
          <p:nvPr/>
        </p:nvSpPr>
        <p:spPr>
          <a:xfrm>
            <a:off x="4159080" y="1136520"/>
            <a:ext cx="4896000" cy="1351080"/>
          </a:xfrm>
          <a:prstGeom prst="wedgeRectCallout">
            <a:avLst>
              <a:gd name="adj1" fmla="val -75064"/>
              <a:gd name="adj2" fmla="val 14097"/>
            </a:avLst>
          </a:prstGeom>
          <a:solidFill>
            <a:srgbClr val="ccf4f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华文新魏"/>
                <a:ea typeface="华文新魏"/>
              </a:rPr>
              <a:t>肌张力高、僵硬、强直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华文新魏"/>
                <a:ea typeface="华文新魏"/>
              </a:rPr>
              <a:t>仰卧位时，呈上肢屈曲、下肢伸展痉挛。患儿俯卧位时</a:t>
            </a:r>
            <a:r>
              <a:rPr b="1" lang="en-US" sz="1800" spc="-1" strike="noStrike">
                <a:solidFill>
                  <a:srgbClr val="046ca6"/>
                </a:solidFill>
                <a:latin typeface="华文新魏"/>
                <a:ea typeface="华文新魏"/>
              </a:rPr>
              <a:t>.</a:t>
            </a:r>
            <a:r>
              <a:rPr b="1" lang="zh-CN" sz="1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竖颈困难，四肢屈曲模式</a:t>
            </a:r>
            <a:r>
              <a:rPr b="0" lang="zh-CN" sz="16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7" name="AutoShape 7"/>
          <p:cNvSpPr/>
          <p:nvPr/>
        </p:nvSpPr>
        <p:spPr>
          <a:xfrm>
            <a:off x="4699080" y="2492280"/>
            <a:ext cx="3959280" cy="935280"/>
          </a:xfrm>
          <a:prstGeom prst="wedgeRectCallout">
            <a:avLst>
              <a:gd name="adj1" fmla="val -67041"/>
              <a:gd name="adj2" fmla="val -17740"/>
            </a:avLst>
          </a:prstGeom>
          <a:solidFill>
            <a:srgbClr val="d4c3f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3197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流涎、咀嚼吞咽困难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3197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非对称性紧张性颈反射姿势多见</a:t>
            </a:r>
            <a:r>
              <a:rPr b="0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8" name="AutoShape 8"/>
          <p:cNvSpPr/>
          <p:nvPr/>
        </p:nvSpPr>
        <p:spPr>
          <a:xfrm>
            <a:off x="5132520" y="3494160"/>
            <a:ext cx="3092400" cy="934920"/>
          </a:xfrm>
          <a:prstGeom prst="wedgeRectCallout">
            <a:avLst>
              <a:gd name="adj1" fmla="val -98518"/>
              <a:gd name="adj2" fmla="val -70254"/>
            </a:avLst>
          </a:prstGeom>
          <a:solidFill>
            <a:srgbClr val="f8c4f1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3197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无痉挛，病理反射阳性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3197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伴有眼球震颤、言语障碍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9" name="AutoShape 9"/>
          <p:cNvSpPr/>
          <p:nvPr/>
        </p:nvSpPr>
        <p:spPr>
          <a:xfrm>
            <a:off x="5167440" y="4462560"/>
            <a:ext cx="3887640" cy="1655640"/>
          </a:xfrm>
          <a:prstGeom prst="wedgeRectCallout">
            <a:avLst>
              <a:gd name="adj1" fmla="val -109495"/>
              <a:gd name="adj2" fmla="val -77625"/>
            </a:avLst>
          </a:prstGeom>
          <a:solidFill>
            <a:srgbClr val="f2e09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2798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全身肌张力增加，呈强直状，肢体僵直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2798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运动严重障碍，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2798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常伴有角弓反张，智力低下</a:t>
            </a:r>
            <a:r>
              <a:rPr b="0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0" name="AutoShape 10"/>
          <p:cNvSpPr/>
          <p:nvPr/>
        </p:nvSpPr>
        <p:spPr>
          <a:xfrm>
            <a:off x="3968640" y="6164280"/>
            <a:ext cx="2979720" cy="431640"/>
          </a:xfrm>
          <a:prstGeom prst="wedgeRectCallout">
            <a:avLst>
              <a:gd name="adj1" fmla="val -69958"/>
              <a:gd name="adj2" fmla="val -367435"/>
            </a:avLst>
          </a:prstGeom>
          <a:solidFill>
            <a:srgbClr val="d2feda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华文新魏"/>
              </a:rPr>
              <a:t>抬头无力，坐或站立困难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1" name="AutoShape 11"/>
          <p:cNvSpPr/>
          <p:nvPr/>
        </p:nvSpPr>
        <p:spPr>
          <a:xfrm>
            <a:off x="395280" y="6118200"/>
            <a:ext cx="3276720" cy="527040"/>
          </a:xfrm>
          <a:prstGeom prst="wedgeRectCallout">
            <a:avLst>
              <a:gd name="adj1" fmla="val 5263"/>
              <a:gd name="adj2" fmla="val -164875"/>
            </a:avLst>
          </a:prstGeom>
          <a:solidFill>
            <a:srgbClr val="fff8c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36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华文新魏"/>
              </a:rPr>
              <a:t>可能以一种类型的表现为主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    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71320" y="571680"/>
            <a:ext cx="7024680" cy="5918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二、主要功能障碍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13" name="灯片编号占位符 5"/>
          <p:cNvSpPr/>
          <p:nvPr/>
        </p:nvSpPr>
        <p:spPr>
          <a:xfrm>
            <a:off x="6588000" y="638172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B075B-424E-47B9-8784-D3B6CB6787C3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4" name="Rectangle 3"/>
          <p:cNvSpPr/>
          <p:nvPr/>
        </p:nvSpPr>
        <p:spPr>
          <a:xfrm>
            <a:off x="826920" y="1700280"/>
            <a:ext cx="763272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447840">
              <a:lnSpc>
                <a:spcPct val="110000"/>
              </a:lnSpc>
              <a:spcBef>
                <a:spcPts val="799"/>
              </a:spcBef>
              <a:buClr>
                <a:srgbClr val="8ac8d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47840" indent="-447840">
              <a:lnSpc>
                <a:spcPct val="110000"/>
              </a:lnSpc>
              <a:spcBef>
                <a:spcPts val="799"/>
              </a:spcBef>
              <a:buClr>
                <a:srgbClr val="8ac8d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5" name="Rectangle 3"/>
          <p:cNvSpPr/>
          <p:nvPr/>
        </p:nvSpPr>
        <p:spPr>
          <a:xfrm>
            <a:off x="826920" y="1197000"/>
            <a:ext cx="74916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4499"/>
              </a:lnSpc>
              <a:spcBef>
                <a:spcPts val="751"/>
              </a:spcBef>
              <a:buClr>
                <a:srgbClr val="99669b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46ca6"/>
                </a:solidFill>
                <a:latin typeface="华文新魏"/>
                <a:ea typeface="华文新魏"/>
              </a:rPr>
              <a:t>语言障碍 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4499"/>
              </a:lnSpc>
              <a:spcBef>
                <a:spcPts val="751"/>
              </a:spcBef>
              <a:buClr>
                <a:srgbClr val="99669b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3366"/>
                </a:solidFill>
                <a:latin typeface="华文新魏"/>
                <a:ea typeface="华文新魏"/>
              </a:rPr>
              <a:t>视觉障碍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4499"/>
              </a:lnSpc>
              <a:spcBef>
                <a:spcPts val="751"/>
              </a:spcBef>
              <a:buClr>
                <a:srgbClr val="99669b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3366"/>
                </a:solidFill>
                <a:latin typeface="华文新魏"/>
                <a:ea typeface="华文新魏"/>
              </a:rPr>
              <a:t>智能障碍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4499"/>
              </a:lnSpc>
              <a:spcBef>
                <a:spcPts val="751"/>
              </a:spcBef>
              <a:buClr>
                <a:srgbClr val="99669b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46ca6"/>
                </a:solidFill>
                <a:latin typeface="华文新魏"/>
                <a:ea typeface="华文新魏"/>
              </a:rPr>
              <a:t>听觉障碍 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4499"/>
              </a:lnSpc>
              <a:spcBef>
                <a:spcPts val="751"/>
              </a:spcBef>
              <a:buClr>
                <a:srgbClr val="99669b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46ca6"/>
                </a:solidFill>
                <a:latin typeface="华文新魏"/>
                <a:ea typeface="华文新魏"/>
              </a:rPr>
              <a:t>行为障碍 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4499"/>
              </a:lnSpc>
              <a:spcBef>
                <a:spcPts val="751"/>
              </a:spcBef>
              <a:buClr>
                <a:srgbClr val="99669b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46ca6"/>
                </a:solidFill>
                <a:latin typeface="华文新魏"/>
                <a:ea typeface="华文新魏"/>
              </a:rPr>
              <a:t>癫痫 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6" name="AutoShape 6"/>
          <p:cNvSpPr/>
          <p:nvPr/>
        </p:nvSpPr>
        <p:spPr>
          <a:xfrm>
            <a:off x="3776760" y="1335240"/>
            <a:ext cx="4686120" cy="1055520"/>
          </a:xfrm>
          <a:prstGeom prst="wedgeRectCallout">
            <a:avLst>
              <a:gd name="adj1" fmla="val -67435"/>
              <a:gd name="adj2" fmla="val 36259"/>
            </a:avLst>
          </a:prstGeom>
          <a:solidFill>
            <a:srgbClr val="ccf4f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表现为语言发育迟缓，发音困难、构音不清，不能成句说话，不能正确表达，有的患儿完全失语。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7" name="AutoShape 7"/>
          <p:cNvSpPr/>
          <p:nvPr/>
        </p:nvSpPr>
        <p:spPr>
          <a:xfrm>
            <a:off x="3789360" y="2386080"/>
            <a:ext cx="4680000" cy="900000"/>
          </a:xfrm>
          <a:prstGeom prst="wedgeRectCallout">
            <a:avLst>
              <a:gd name="adj1" fmla="val -69740"/>
              <a:gd name="adj2" fmla="val -3115"/>
            </a:avLst>
          </a:prstGeom>
          <a:solidFill>
            <a:srgbClr val="d4c3f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366"/>
                </a:solidFill>
                <a:latin typeface="华文新魏"/>
                <a:ea typeface="华文新魏"/>
              </a:rPr>
              <a:t>内、外斜视，视神经萎缩，动眼神经麻痹，眼球震颤，</a:t>
            </a: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近视、远视 等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8" name="AutoShape 8"/>
          <p:cNvSpPr/>
          <p:nvPr/>
        </p:nvSpPr>
        <p:spPr>
          <a:xfrm>
            <a:off x="3780000" y="3308400"/>
            <a:ext cx="4679640" cy="647640"/>
          </a:xfrm>
          <a:prstGeom prst="wedgeRectCallout">
            <a:avLst>
              <a:gd name="adj1" fmla="val -69708"/>
              <a:gd name="adj2" fmla="val -15199"/>
            </a:avLst>
          </a:prstGeom>
          <a:solidFill>
            <a:srgbClr val="f8c4f1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3197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智能低下 ，多动、情绪不稳、自闭</a:t>
            </a:r>
            <a:r>
              <a:rPr b="0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9" name="AutoShape 9"/>
          <p:cNvSpPr/>
          <p:nvPr/>
        </p:nvSpPr>
        <p:spPr>
          <a:xfrm>
            <a:off x="3789360" y="3973680"/>
            <a:ext cx="4680000" cy="576000"/>
          </a:xfrm>
          <a:prstGeom prst="wedgeRectCallout">
            <a:avLst>
              <a:gd name="adj1" fmla="val -68490"/>
              <a:gd name="adj2" fmla="val -10879"/>
            </a:avLst>
          </a:prstGeom>
          <a:solidFill>
            <a:srgbClr val="f2e09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366"/>
                </a:solidFill>
                <a:latin typeface="Arial"/>
                <a:ea typeface="华文新魏"/>
              </a:rPr>
              <a:t>听力减退甚至丧失听力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0" name="AutoShape 10"/>
          <p:cNvSpPr/>
          <p:nvPr/>
        </p:nvSpPr>
        <p:spPr>
          <a:xfrm>
            <a:off x="3789360" y="4564080"/>
            <a:ext cx="4680000" cy="934920"/>
          </a:xfrm>
          <a:prstGeom prst="wedgeRectCallout">
            <a:avLst>
              <a:gd name="adj1" fmla="val -69231"/>
              <a:gd name="adj2" fmla="val -21476"/>
            </a:avLst>
          </a:prstGeom>
          <a:solidFill>
            <a:srgbClr val="d2feda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固执任性、情绪不稳定、注意力不集中有自残行为和暴力倾向 。 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1" name="AutoShape 11"/>
          <p:cNvSpPr/>
          <p:nvPr/>
        </p:nvSpPr>
        <p:spPr>
          <a:xfrm>
            <a:off x="3780000" y="5499000"/>
            <a:ext cx="4679640" cy="1081080"/>
          </a:xfrm>
          <a:prstGeom prst="wedgeRectCallout">
            <a:avLst>
              <a:gd name="adj1" fmla="val -85106"/>
              <a:gd name="adj2" fmla="val -54990"/>
            </a:avLst>
          </a:prstGeom>
          <a:solidFill>
            <a:srgbClr val="fff8c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36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华文新魏"/>
              </a:rPr>
              <a:t>全身性阵挛发作、部分发作、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36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华文新魏"/>
              </a:rPr>
              <a:t>继发性大发作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28760" y="714240"/>
            <a:ext cx="7997760" cy="66384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三、康复护理评估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042920" y="2060280"/>
            <a:ext cx="749160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健康状态评估 </a:t>
            </a: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躯体功能评估</a:t>
            </a: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言语功能评估 </a:t>
            </a: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感知、认知功能评估 </a:t>
            </a: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8" dur="500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3" dur="500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8" dur="500"/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3" dur="500"/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28760" y="714240"/>
            <a:ext cx="7997760" cy="66384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三、康复护理评估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49160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ADL</a:t>
            </a:r>
            <a:r>
              <a:rPr b="1" lang="zh-CN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评估</a:t>
            </a: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心理社会及家庭评估</a:t>
            </a: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智能评估    </a:t>
            </a: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6" dur="500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1" dur="500"/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6" dur="500"/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矩形 1"/>
          <p:cNvSpPr/>
          <p:nvPr/>
        </p:nvSpPr>
        <p:spPr>
          <a:xfrm>
            <a:off x="971640" y="1628640"/>
            <a:ext cx="7777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楷体"/>
                <a:ea typeface="楷体"/>
              </a:rPr>
              <a:t>案例</a:t>
            </a:r>
            <a:r>
              <a:rPr b="1" lang="en-US" sz="3200" spc="-1" strike="noStrike">
                <a:solidFill>
                  <a:srgbClr val="c00000"/>
                </a:solidFill>
                <a:latin typeface="楷体"/>
                <a:ea typeface="楷体"/>
              </a:rPr>
              <a:t>6-3 B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楷体"/>
                <a:ea typeface="楷体"/>
              </a:rPr>
              <a:t>    </a:t>
            </a:r>
            <a:r>
              <a:rPr b="1" lang="zh-CN" sz="3200" spc="-1" strike="noStrike">
                <a:solidFill>
                  <a:srgbClr val="046ca6"/>
                </a:solidFill>
                <a:latin typeface="楷体"/>
                <a:ea typeface="楷体"/>
              </a:rPr>
              <a:t>该患儿口语不流利，流涎，智力落后，能简单回答问题，右侧眼球斜视，吞咽有呛咳，四肢肌张力高，行走呈剪刀步态，足跟不能着地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楷体"/>
                <a:ea typeface="楷体"/>
              </a:rPr>
              <a:t>问题与思考</a:t>
            </a:r>
            <a:r>
              <a:rPr b="1" lang="zh-CN" sz="3200" spc="-1" strike="noStrike">
                <a:solidFill>
                  <a:srgbClr val="046ca6"/>
                </a:solidFill>
                <a:latin typeface="楷体"/>
                <a:ea typeface="楷体"/>
              </a:rPr>
              <a:t>：为该患儿制订康复护理计划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71320" y="785520"/>
            <a:ext cx="8321400" cy="6634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r>
              <a:rPr b="1" lang="en-US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—</a:t>
            </a: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原则及目标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28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F73C8-210E-4177-B514-B85D624C80BD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539280" y="2349000"/>
            <a:ext cx="8207640" cy="30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原则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ts val="4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       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早期干预，综合康复，正确指导，积极配合，持之以恒，预防继发残疾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71320" y="785520"/>
            <a:ext cx="8321400" cy="6634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r>
              <a:rPr b="1" lang="en-US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—</a:t>
            </a: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原则及目标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31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E827D-1426-4450-8BC2-AB10FEE96318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68360" y="1699920"/>
            <a:ext cx="8393040" cy="438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ts val="4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目标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15360" indent="0">
              <a:lnSpc>
                <a:spcPts val="4598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9b"/>
                </a:solidFill>
                <a:latin typeface="华文新魏"/>
                <a:ea typeface="华文新魏"/>
              </a:rPr>
              <a:t>  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  <a:ea typeface="华文新魏"/>
              </a:rPr>
              <a:t>短期：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①纠正异常姿势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15360" indent="0">
              <a:lnSpc>
                <a:spcPts val="4598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　　　　②指导正确抱姿与喂养姿势 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15360" indent="0">
              <a:lnSpc>
                <a:spcPts val="4598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　　　　③无跌伤造成二次损伤  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15360" indent="0">
              <a:lnSpc>
                <a:spcPts val="4598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  <a:ea typeface="华文新魏"/>
              </a:rPr>
              <a:t>长期：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①实现最佳功能和独立性；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15360" indent="0">
              <a:lnSpc>
                <a:spcPts val="4598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          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②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最大限度恢复身体、心理、社会等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         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15360" indent="0">
              <a:lnSpc>
                <a:spcPts val="4598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                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方面功能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3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3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3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3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0289D-F694-4424-99B6-A301165989C4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25520" y="118260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669b"/>
                </a:solidFill>
                <a:latin typeface="华文新魏"/>
                <a:ea typeface="华文新魏"/>
              </a:rPr>
              <a:t>主要内容</a:t>
            </a:r>
            <a:endParaRPr b="1" lang="en-US" sz="48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258560" y="1844280"/>
            <a:ext cx="703116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概述</a:t>
            </a: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主要功能障碍</a:t>
            </a: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康复护理评估</a:t>
            </a: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康复护理措施</a:t>
            </a: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康复护理指导</a:t>
            </a: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71320" y="713880"/>
            <a:ext cx="7529400" cy="5922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r>
              <a:rPr b="1" lang="en-US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—</a:t>
            </a: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护理方法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34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263B0-74C3-4EA4-A478-292D073D75AA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042920" y="2133720"/>
            <a:ext cx="7027920" cy="371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ts val="4799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康复环境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 algn="just">
              <a:lnSpc>
                <a:spcPts val="4799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　宽敞、整洁、典雅、舒适、安全，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 algn="just">
              <a:lnSpc>
                <a:spcPts val="4799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　房间内设无障碍设施 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2"/>
          <p:cNvSpPr/>
          <p:nvPr/>
        </p:nvSpPr>
        <p:spPr>
          <a:xfrm>
            <a:off x="684360" y="1916280"/>
            <a:ext cx="7704000" cy="365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799"/>
              </a:spcBef>
              <a:buClr>
                <a:srgbClr val="99669b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纠正异常姿势，改善躯体活动障碍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●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正确睡眠体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　　痉挛型采用侧卧，利于降低肌张力，促进动作对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　　重者取俯卧位，胸前放一低枕，使其双臂向前伸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　　当头能向前抬起或能转动时，可去掉枕头取俯卧位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10920" y="620640"/>
            <a:ext cx="8001000" cy="720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r>
              <a:rPr b="1" lang="en-US" sz="4400" spc="-1" strike="noStrike">
                <a:solidFill>
                  <a:srgbClr val="002060"/>
                </a:solidFill>
                <a:latin typeface="Verdana"/>
                <a:ea typeface="华文新魏"/>
              </a:rPr>
              <a:t>—</a:t>
            </a: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护理方法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3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3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2"/>
          <p:cNvSpPr/>
          <p:nvPr/>
        </p:nvSpPr>
        <p:spPr>
          <a:xfrm>
            <a:off x="720720" y="1432080"/>
            <a:ext cx="7704000" cy="40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799"/>
              </a:spcBef>
              <a:buClr>
                <a:srgbClr val="99669b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纠正异常姿势，改善躯体活动障碍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●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正确的坐姿</a:t>
            </a:r>
            <a:r>
              <a:rPr b="0" lang="zh-CN" sz="1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　</a:t>
            </a:r>
            <a:r>
              <a:rPr b="1" lang="en-US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伸腿坐位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　　　　　　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　</a:t>
            </a:r>
            <a:r>
              <a:rPr b="1" lang="en-US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盘腿坐位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10920" y="620640"/>
            <a:ext cx="8001000" cy="720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r>
              <a:rPr b="1" lang="en-US" sz="4400" spc="-1" strike="noStrike">
                <a:solidFill>
                  <a:srgbClr val="002060"/>
                </a:solidFill>
                <a:latin typeface="Verdana"/>
                <a:ea typeface="华文新魏"/>
              </a:rPr>
              <a:t>—</a:t>
            </a: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护理方法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40" name="AutoShape 4"/>
          <p:cNvSpPr/>
          <p:nvPr/>
        </p:nvSpPr>
        <p:spPr>
          <a:xfrm>
            <a:off x="4194000" y="2143080"/>
            <a:ext cx="4321440" cy="2592360"/>
          </a:xfrm>
          <a:prstGeom prst="wedgeRectCallout">
            <a:avLst>
              <a:gd name="adj1" fmla="val -77810"/>
              <a:gd name="adj2" fmla="val 9092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1" name="AutoShape 5"/>
          <p:cNvSpPr/>
          <p:nvPr/>
        </p:nvSpPr>
        <p:spPr>
          <a:xfrm>
            <a:off x="4194000" y="4159080"/>
            <a:ext cx="4321440" cy="2521080"/>
          </a:xfrm>
          <a:prstGeom prst="wedgeRectCallout">
            <a:avLst>
              <a:gd name="adj1" fmla="val -78694"/>
              <a:gd name="adj2" fmla="val -4282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42" name="Picture 6" descr="图13-11-1 伸腿坐位"/>
          <p:cNvPicPr/>
          <p:nvPr/>
        </p:nvPicPr>
        <p:blipFill>
          <a:blip r:embed="rId1"/>
          <a:stretch/>
        </p:blipFill>
        <p:spPr>
          <a:xfrm>
            <a:off x="4267080" y="2214720"/>
            <a:ext cx="2105280" cy="223200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7" descr="图13-11-2伸腿坐位"/>
          <p:cNvPicPr/>
          <p:nvPr/>
        </p:nvPicPr>
        <p:blipFill>
          <a:blip r:embed="rId2"/>
          <a:stretch/>
        </p:blipFill>
        <p:spPr>
          <a:xfrm>
            <a:off x="6427800" y="2286000"/>
            <a:ext cx="2019240" cy="216072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8" descr="图13-12-1 盘坐位"/>
          <p:cNvPicPr/>
          <p:nvPr/>
        </p:nvPicPr>
        <p:blipFill>
          <a:blip r:embed="rId3"/>
          <a:stretch/>
        </p:blipFill>
        <p:spPr>
          <a:xfrm>
            <a:off x="4338720" y="4446720"/>
            <a:ext cx="2057400" cy="202860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9" descr="图13-12-2 盘坐位"/>
          <p:cNvPicPr/>
          <p:nvPr/>
        </p:nvPicPr>
        <p:blipFill>
          <a:blip r:embed="rId4"/>
          <a:stretch/>
        </p:blipFill>
        <p:spPr>
          <a:xfrm>
            <a:off x="6427800" y="4375080"/>
            <a:ext cx="194292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3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3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3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3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2"/>
          <p:cNvSpPr/>
          <p:nvPr/>
        </p:nvSpPr>
        <p:spPr>
          <a:xfrm>
            <a:off x="595440" y="1413000"/>
            <a:ext cx="7704000" cy="24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799"/>
              </a:spcBef>
              <a:buClr>
                <a:srgbClr val="99669b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纠正异常姿势，改善躯体活动障碍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●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正确的抱姿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　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10920" y="620640"/>
            <a:ext cx="8001000" cy="720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r>
              <a:rPr b="1" lang="en-US" sz="4400" spc="-1" strike="noStrike">
                <a:solidFill>
                  <a:srgbClr val="002060"/>
                </a:solidFill>
                <a:latin typeface="Verdana"/>
                <a:ea typeface="华文新魏"/>
              </a:rPr>
              <a:t>—</a:t>
            </a: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护理方法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grpSp>
        <p:nvGrpSpPr>
          <p:cNvPr id="348" name="组合 15"/>
          <p:cNvGrpSpPr/>
          <p:nvPr/>
        </p:nvGrpSpPr>
        <p:grpSpPr>
          <a:xfrm>
            <a:off x="3564000" y="2276640"/>
            <a:ext cx="5075280" cy="4349520"/>
            <a:chOff x="3564000" y="2276640"/>
            <a:chExt cx="5075280" cy="4349520"/>
          </a:xfrm>
        </p:grpSpPr>
        <p:sp>
          <p:nvSpPr>
            <p:cNvPr id="349" name="AutoShape 4"/>
            <p:cNvSpPr/>
            <p:nvPr/>
          </p:nvSpPr>
          <p:spPr>
            <a:xfrm>
              <a:off x="3564000" y="2276640"/>
              <a:ext cx="5075280" cy="4349520"/>
            </a:xfrm>
            <a:prstGeom prst="wedgeRectCallout">
              <a:avLst>
                <a:gd name="adj1" fmla="val -23046"/>
                <a:gd name="adj2" fmla="val 50467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46ca6"/>
                  </a:solidFill>
                  <a:latin typeface="Arial"/>
                  <a:ea typeface="华文新魏"/>
                </a:rPr>
                <a:t>痉挛型角弓反张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pic>
          <p:nvPicPr>
            <p:cNvPr id="350" name="Picture 5" descr="图13-23-1 痉挛型抱姿"/>
            <p:cNvPicPr/>
            <p:nvPr/>
          </p:nvPicPr>
          <p:blipFill>
            <a:blip r:embed="rId1"/>
            <a:stretch/>
          </p:blipFill>
          <p:spPr>
            <a:xfrm>
              <a:off x="4410360" y="2956680"/>
              <a:ext cx="3669480" cy="32713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1" name="组合 6"/>
          <p:cNvGrpSpPr/>
          <p:nvPr/>
        </p:nvGrpSpPr>
        <p:grpSpPr>
          <a:xfrm>
            <a:off x="4572000" y="2297160"/>
            <a:ext cx="3456000" cy="3705120"/>
            <a:chOff x="4572000" y="2297160"/>
            <a:chExt cx="3456000" cy="3705120"/>
          </a:xfrm>
        </p:grpSpPr>
        <p:sp>
          <p:nvSpPr>
            <p:cNvPr id="352" name="AutoShape 6"/>
            <p:cNvSpPr/>
            <p:nvPr/>
          </p:nvSpPr>
          <p:spPr>
            <a:xfrm>
              <a:off x="4572000" y="2297160"/>
              <a:ext cx="3456000" cy="3705120"/>
            </a:xfrm>
            <a:prstGeom prst="wedgeRectCallout">
              <a:avLst>
                <a:gd name="adj1" fmla="val -19986"/>
                <a:gd name="adj2" fmla="val -50129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46ca6"/>
                  </a:solidFill>
                  <a:latin typeface="Arial"/>
                  <a:ea typeface="华文新魏"/>
                </a:rPr>
                <a:t>　不随意运动型</a:t>
              </a:r>
              <a:r>
                <a:rPr b="0" lang="zh-CN" sz="1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pic>
          <p:nvPicPr>
            <p:cNvPr id="353" name="Picture 7" descr="图13-24-1 不随意运动型抱姿"/>
            <p:cNvPicPr/>
            <p:nvPr/>
          </p:nvPicPr>
          <p:blipFill>
            <a:blip r:embed="rId1"/>
            <a:stretch/>
          </p:blipFill>
          <p:spPr>
            <a:xfrm>
              <a:off x="5181480" y="2884320"/>
              <a:ext cx="2236680" cy="2530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4" name="AutoShape 12"/>
          <p:cNvSpPr/>
          <p:nvPr/>
        </p:nvSpPr>
        <p:spPr>
          <a:xfrm>
            <a:off x="684360" y="2205000"/>
            <a:ext cx="3348000" cy="3889440"/>
          </a:xfrm>
          <a:prstGeom prst="wedgeRectCallout">
            <a:avLst>
              <a:gd name="adj1" fmla="val 29685"/>
              <a:gd name="adj2" fmla="val -5005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华文新魏"/>
              </a:rPr>
              <a:t>不随意运动型及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华文新魏"/>
              </a:rPr>
              <a:t>肌张力低下型患儿抱法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55" name="Picture 13" descr="图13-24-2 不随意运动型抱姿"/>
          <p:cNvPicPr/>
          <p:nvPr/>
        </p:nvPicPr>
        <p:blipFill>
          <a:blip r:embed="rId2"/>
          <a:stretch/>
        </p:blipFill>
        <p:spPr>
          <a:xfrm>
            <a:off x="1225440" y="2903400"/>
            <a:ext cx="2430720" cy="2748240"/>
          </a:xfrm>
          <a:prstGeom prst="rect">
            <a:avLst/>
          </a:prstGeom>
          <a:ln w="0">
            <a:noFill/>
          </a:ln>
        </p:spPr>
      </p:pic>
      <p:sp>
        <p:nvSpPr>
          <p:cNvPr id="356" name="Rectangle 5"/>
          <p:cNvSpPr/>
          <p:nvPr/>
        </p:nvSpPr>
        <p:spPr>
          <a:xfrm>
            <a:off x="611280" y="620640"/>
            <a:ext cx="8001000" cy="720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r>
              <a:rPr b="1" lang="en-US" sz="4400" spc="-1" strike="noStrike">
                <a:solidFill>
                  <a:srgbClr val="002060"/>
                </a:solidFill>
                <a:latin typeface="Verdana"/>
                <a:ea typeface="华文新魏"/>
              </a:rPr>
              <a:t>—</a:t>
            </a: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护理方法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2"/>
          <p:cNvSpPr/>
          <p:nvPr/>
        </p:nvSpPr>
        <p:spPr>
          <a:xfrm>
            <a:off x="684360" y="1916280"/>
            <a:ext cx="7704000" cy="24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799"/>
              </a:spcBef>
              <a:buClr>
                <a:srgbClr val="99669b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纠正异常姿势，改善躯体活动障碍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●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正确的抱姿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　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10920" y="620640"/>
            <a:ext cx="8001000" cy="720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r>
              <a:rPr b="1" lang="en-US" sz="4400" spc="-1" strike="noStrike">
                <a:solidFill>
                  <a:srgbClr val="002060"/>
                </a:solidFill>
                <a:latin typeface="Verdana"/>
                <a:ea typeface="华文新魏"/>
              </a:rPr>
              <a:t>—</a:t>
            </a: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护理方法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grpSp>
        <p:nvGrpSpPr>
          <p:cNvPr id="359" name="组合 1"/>
          <p:cNvGrpSpPr/>
          <p:nvPr/>
        </p:nvGrpSpPr>
        <p:grpSpPr>
          <a:xfrm>
            <a:off x="522360" y="1773360"/>
            <a:ext cx="8028000" cy="4367160"/>
            <a:chOff x="522360" y="1773360"/>
            <a:chExt cx="8028000" cy="4367160"/>
          </a:xfrm>
        </p:grpSpPr>
        <p:sp>
          <p:nvSpPr>
            <p:cNvPr id="360" name="AutoShape 8"/>
            <p:cNvSpPr/>
            <p:nvPr/>
          </p:nvSpPr>
          <p:spPr>
            <a:xfrm>
              <a:off x="522360" y="1773360"/>
              <a:ext cx="8028000" cy="4367160"/>
            </a:xfrm>
            <a:prstGeom prst="wedgeRectCallout">
              <a:avLst>
                <a:gd name="adj1" fmla="val -24092"/>
                <a:gd name="adj2" fmla="val 46263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46ca6"/>
                  </a:solidFill>
                  <a:latin typeface="Arial"/>
                  <a:ea typeface="华文新魏"/>
                </a:rPr>
                <a:t>重度角弓反张患儿侧卧位抱起法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pic>
          <p:nvPicPr>
            <p:cNvPr id="361" name="Picture 9" descr="图13-29 重度角弓反张的特殊抱法"/>
            <p:cNvPicPr/>
            <p:nvPr/>
          </p:nvPicPr>
          <p:blipFill>
            <a:blip r:embed="rId1"/>
            <a:stretch/>
          </p:blipFill>
          <p:spPr>
            <a:xfrm>
              <a:off x="3052080" y="2781000"/>
              <a:ext cx="2514600" cy="3056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nodeType="clickEffect" fill="hold">
                      <p:stCondLst>
                        <p:cond delay="indefinite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10920" y="620640"/>
            <a:ext cx="8001000" cy="720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r>
              <a:rPr b="1" lang="en-US" sz="4400" spc="-1" strike="noStrike">
                <a:solidFill>
                  <a:srgbClr val="002060"/>
                </a:solidFill>
                <a:latin typeface="Verdana"/>
                <a:ea typeface="华文新魏"/>
              </a:rPr>
              <a:t>—</a:t>
            </a: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护理方法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grpSp>
        <p:nvGrpSpPr>
          <p:cNvPr id="363" name="组合 1"/>
          <p:cNvGrpSpPr/>
          <p:nvPr/>
        </p:nvGrpSpPr>
        <p:grpSpPr>
          <a:xfrm>
            <a:off x="2054160" y="2060640"/>
            <a:ext cx="5256360" cy="3960720"/>
            <a:chOff x="2054160" y="2060640"/>
            <a:chExt cx="5256360" cy="3960720"/>
          </a:xfrm>
        </p:grpSpPr>
        <p:sp>
          <p:nvSpPr>
            <p:cNvPr id="364" name="AutoShape 10"/>
            <p:cNvSpPr/>
            <p:nvPr/>
          </p:nvSpPr>
          <p:spPr>
            <a:xfrm>
              <a:off x="2054160" y="2060640"/>
              <a:ext cx="5256360" cy="3960720"/>
            </a:xfrm>
            <a:prstGeom prst="wedgeRectCallout">
              <a:avLst>
                <a:gd name="adj1" fmla="val -49643"/>
                <a:gd name="adj2" fmla="val -29564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46ca6"/>
                  </a:solidFill>
                  <a:latin typeface="Arial"/>
                  <a:ea typeface="华文新魏"/>
                </a:rPr>
                <a:t>屈曲占优势患儿抱法</a:t>
              </a:r>
              <a:r>
                <a:rPr b="0" lang="zh-CN" sz="1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pic>
          <p:nvPicPr>
            <p:cNvPr id="365" name="Picture 11" descr="图13-28 屈曲占优势的特殊抱法"/>
            <p:cNvPicPr/>
            <p:nvPr/>
          </p:nvPicPr>
          <p:blipFill>
            <a:blip r:embed="rId1"/>
            <a:stretch/>
          </p:blipFill>
          <p:spPr>
            <a:xfrm>
              <a:off x="3021120" y="2826720"/>
              <a:ext cx="3182040" cy="3194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2"/>
          <p:cNvSpPr/>
          <p:nvPr/>
        </p:nvSpPr>
        <p:spPr>
          <a:xfrm>
            <a:off x="684360" y="1916280"/>
            <a:ext cx="7704000" cy="433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799"/>
              </a:spcBef>
              <a:buClr>
                <a:srgbClr val="99669b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日常生活活动（</a:t>
            </a:r>
            <a:r>
              <a:rPr b="1" lang="en-US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ADL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能力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●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洗浴的护理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　　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华文新魏"/>
              </a:rPr>
              <a:t>洗浴时应注意不加重异常姿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华文新魏"/>
              </a:rPr>
              <a:t>　　体位舒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华文新魏"/>
              </a:rPr>
              <a:t>　　患儿有安全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10920" y="620640"/>
            <a:ext cx="8001000" cy="720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r>
              <a:rPr b="1" lang="en-US" sz="4400" spc="-1" strike="noStrike">
                <a:solidFill>
                  <a:srgbClr val="002060"/>
                </a:solidFill>
                <a:latin typeface="Verdana"/>
                <a:ea typeface="华文新魏"/>
              </a:rPr>
              <a:t>—</a:t>
            </a: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护理方法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nodeType="clickEffect" fill="hold">
                      <p:stCondLst>
                        <p:cond delay="indefinite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nodeType="clickEffect" fill="hold">
                      <p:stCondLst>
                        <p:cond delay="indefinite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nodeType="clickEffect" fill="hold">
                      <p:stCondLst>
                        <p:cond delay="indefinite"/>
                      </p:stCondLst>
                      <p:childTnLst>
                        <p:par>
                          <p:cTn id="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3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3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2"/>
          <p:cNvSpPr/>
          <p:nvPr/>
        </p:nvSpPr>
        <p:spPr>
          <a:xfrm>
            <a:off x="684360" y="1916280"/>
            <a:ext cx="7704000" cy="35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799"/>
              </a:spcBef>
              <a:buClr>
                <a:srgbClr val="99669b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日常生活活动（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ADL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能力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●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衣服穿脱的护理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　</a:t>
            </a: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套头衫或背心时，穿先患侧再健侧，脱健侧后患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　对襟衣服，先将其下面纽扣扣好，根据患儿的情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　留</a:t>
            </a:r>
            <a:r>
              <a:rPr b="1" lang="en-US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个上面的纽扣不扣，再按照套头衫脱穿方法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10920" y="620640"/>
            <a:ext cx="8001000" cy="720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r>
              <a:rPr b="1" lang="en-US" sz="4400" spc="-1" strike="noStrike">
                <a:solidFill>
                  <a:srgbClr val="002060"/>
                </a:solidFill>
                <a:latin typeface="Verdana"/>
                <a:ea typeface="华文新魏"/>
              </a:rPr>
              <a:t>—</a:t>
            </a: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护理方法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7" dur="indefinite" restart="never" nodeType="tmRoot">
          <p:childTnLst>
            <p:seq>
              <p:cTn id="638" dur="indefinite" nodeType="mainSeq">
                <p:childTnLst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nodeType="clickEffect" fill="hold">
                      <p:stCondLst>
                        <p:cond delay="indefinite"/>
                      </p:stCondLst>
                      <p:childTnLst>
                        <p:par>
                          <p:cTn id="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2"/>
          <p:cNvSpPr/>
          <p:nvPr/>
        </p:nvSpPr>
        <p:spPr>
          <a:xfrm>
            <a:off x="684360" y="2133720"/>
            <a:ext cx="7704000" cy="29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799"/>
              </a:spcBef>
              <a:buClr>
                <a:srgbClr val="99669b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日常生活活动（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ADL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能力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●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裤子穿脱的护理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　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取坐位，先患侧套入裤筒，再穿另一侧，然后躺下，边蹬健足，边向上提拉裤子到腰部并系好。脱与穿相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　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10920" y="620640"/>
            <a:ext cx="8001000" cy="720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r>
              <a:rPr b="1" lang="en-US" sz="4400" spc="-1" strike="noStrike">
                <a:solidFill>
                  <a:srgbClr val="002060"/>
                </a:solidFill>
                <a:latin typeface="Verdana"/>
                <a:ea typeface="华文新魏"/>
              </a:rPr>
              <a:t>—</a:t>
            </a: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护理方法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1" dur="indefinite" restart="never" nodeType="tmRoot">
          <p:childTnLst>
            <p:seq>
              <p:cTn id="652" dur="indefinite" nodeType="mainSeq">
                <p:childTnLst>
                  <p:par>
                    <p:cTn id="653" nodeType="clickEffect" fill="hold">
                      <p:stCondLst>
                        <p:cond delay="indefinite"/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nodeType="clickEffect" fill="hold">
                      <p:stCondLst>
                        <p:cond delay="indefinite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39640" y="105264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教学目标</a:t>
            </a:r>
            <a:endParaRPr b="1" lang="en-US" sz="40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4000" y="3716280"/>
            <a:ext cx="8459640" cy="300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6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楷体"/>
              </a:rPr>
              <a:t>识记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楷体"/>
              </a:rPr>
              <a:t>1</a:t>
            </a:r>
            <a:r>
              <a:rPr b="1" lang="zh-CN" sz="3200" spc="-1" strike="noStrike">
                <a:solidFill>
                  <a:srgbClr val="0070c0"/>
                </a:solidFill>
                <a:latin typeface="楷体"/>
              </a:rPr>
              <a:t>．陈述脑瘫概念、常见类型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楷体"/>
              </a:rPr>
              <a:t>2. </a:t>
            </a:r>
            <a:r>
              <a:rPr b="1" lang="zh-CN" sz="3200" spc="-1" strike="noStrike">
                <a:solidFill>
                  <a:srgbClr val="0070c0"/>
                </a:solidFill>
                <a:latin typeface="楷体"/>
              </a:rPr>
              <a:t>描述脑瘫的临床表现和主要功能障碍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楷体"/>
              </a:rPr>
              <a:t>理解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楷体"/>
              </a:rPr>
              <a:t>1. </a:t>
            </a:r>
            <a:r>
              <a:rPr b="1" lang="zh-CN" sz="3200" spc="-1" strike="noStrike">
                <a:solidFill>
                  <a:srgbClr val="0070c0"/>
                </a:solidFill>
                <a:latin typeface="楷体"/>
              </a:rPr>
              <a:t>解释脑瘫的致病因素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楷体"/>
              </a:rPr>
              <a:t>2. </a:t>
            </a:r>
            <a:r>
              <a:rPr b="1" lang="zh-CN" sz="3200" spc="-1" strike="noStrike">
                <a:solidFill>
                  <a:srgbClr val="0070c0"/>
                </a:solidFill>
                <a:latin typeface="楷体"/>
              </a:rPr>
              <a:t>归纳各型脑瘫的典型体征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楷体"/>
              </a:rPr>
              <a:t>运用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楷体"/>
              </a:rPr>
              <a:t>评估各型脑瘫患儿并为其制订康复护理计划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lnSpc>
                <a:spcPts val="58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50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8F641-FFFC-4779-A767-7B2F65AB7C20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2"/>
          <p:cNvSpPr/>
          <p:nvPr/>
        </p:nvSpPr>
        <p:spPr>
          <a:xfrm>
            <a:off x="468360" y="1700280"/>
            <a:ext cx="8207280" cy="38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799"/>
              </a:spcBef>
              <a:buClr>
                <a:srgbClr val="99669b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日常生活活动（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ADL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能力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●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进食的护理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　　</a:t>
            </a: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①抱坐喂食；②面对面进食；③坐位进食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　④坐在固定椅子上进食；⑤侧卧位进食；⑥俯卧位进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　　喂饮时应注意，勺进入口腔的位置要低于患儿的口唇，从口唇的中央部位插入，喂食者避免从患儿头的上方或侧方喂饮，防止引起患儿的头部过度伸展和向一侧回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10920" y="620640"/>
            <a:ext cx="8001000" cy="720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r>
              <a:rPr b="1" lang="en-US" sz="4400" spc="-1" strike="noStrike">
                <a:solidFill>
                  <a:srgbClr val="002060"/>
                </a:solidFill>
                <a:latin typeface="Verdana"/>
                <a:ea typeface="华文新魏"/>
              </a:rPr>
              <a:t>—</a:t>
            </a: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护理方法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5" dur="indefinite" restart="never" nodeType="tmRoot">
          <p:childTnLst>
            <p:seq>
              <p:cTn id="666" dur="indefinite" nodeType="mainSeq">
                <p:childTnLst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nodeType="clickEffect" fill="hold">
                      <p:stCondLst>
                        <p:cond delay="indefinite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2"/>
          <p:cNvSpPr/>
          <p:nvPr/>
        </p:nvSpPr>
        <p:spPr>
          <a:xfrm>
            <a:off x="684360" y="1916280"/>
            <a:ext cx="7704000" cy="414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799"/>
              </a:spcBef>
              <a:buClr>
                <a:srgbClr val="99669b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日常生活活动（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ADL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能力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●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排泄的护理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　</a:t>
            </a: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培养定时排便的习惯　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　能座位排便的患儿应注意增加稳定性　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　注意座位的高度，双脚能踏到地面为宜。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10920" y="620640"/>
            <a:ext cx="8001000" cy="720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r>
              <a:rPr b="1" lang="en-US" sz="4400" spc="-1" strike="noStrike">
                <a:solidFill>
                  <a:srgbClr val="002060"/>
                </a:solidFill>
                <a:latin typeface="Verdana"/>
                <a:ea typeface="华文新魏"/>
              </a:rPr>
              <a:t>—</a:t>
            </a: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护理方法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9" dur="indefinite" restart="never" nodeType="tmRoot">
          <p:childTnLst>
            <p:seq>
              <p:cTn id="680" dur="indefinite" nodeType="mainSeq">
                <p:childTnLst>
                  <p:par>
                    <p:cTn id="681" nodeType="clickEffect" fill="hold">
                      <p:stCondLst>
                        <p:cond delay="indefinite"/>
                      </p:stCondLst>
                      <p:childTnLst>
                        <p:par>
                          <p:cTn id="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nodeType="clickEffect" fill="hold">
                      <p:stCondLst>
                        <p:cond delay="indefinite"/>
                      </p:stCondLst>
                      <p:childTnLst>
                        <p:par>
                          <p:cTn id="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/>
          </p:nvPr>
        </p:nvSpPr>
        <p:spPr>
          <a:xfrm>
            <a:off x="539280" y="1557000"/>
            <a:ext cx="8001000" cy="47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言语障碍的护理</a:t>
            </a: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华文新魏"/>
                <a:ea typeface="华文新魏"/>
              </a:rPr>
              <a:t>　　早期给予言语刺激及动作模仿</a:t>
            </a:r>
            <a:endParaRPr b="1" lang="en-US" sz="24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华文新魏"/>
                <a:ea typeface="华文新魏"/>
              </a:rPr>
              <a:t>　　强调早期干预并融入日常生活活动中 </a:t>
            </a:r>
            <a:endParaRPr b="1" lang="en-US" sz="24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加强心理护理增强社会交往能力</a:t>
            </a: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　　创造机会参与社会活动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　　增强社会交往能力 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title"/>
          </p:nvPr>
        </p:nvSpPr>
        <p:spPr>
          <a:xfrm>
            <a:off x="539280" y="620280"/>
            <a:ext cx="8001000" cy="68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r>
              <a:rPr b="1" lang="en-US" sz="4400" spc="-1" strike="noStrike">
                <a:solidFill>
                  <a:srgbClr val="002060"/>
                </a:solidFill>
                <a:latin typeface="Verdana"/>
                <a:ea typeface="华文新魏"/>
              </a:rPr>
              <a:t>—</a:t>
            </a: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护理方法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3" dur="indefinite" restart="never" nodeType="tmRoot">
          <p:childTnLst>
            <p:seq>
              <p:cTn id="694" dur="indefinite" nodeType="mainSeq">
                <p:childTnLst>
                  <p:par>
                    <p:cTn id="695" nodeType="clickEffect" fill="hold">
                      <p:stCondLst>
                        <p:cond delay="0"/>
                      </p:stCondLst>
                      <p:childTnLst>
                        <p:par>
                          <p:cTn id="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9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56760" y="500040"/>
            <a:ext cx="5426280" cy="7351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五、康复护理指导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79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337A6-B08B-4B3C-B611-F1F0995F410A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68000" y="1989000"/>
            <a:ext cx="7775640" cy="3888000"/>
          </a:xfrm>
          <a:prstGeom prst="rect">
            <a:avLst/>
          </a:prstGeom>
          <a:noFill/>
          <a:ln w="9360">
            <a:solidFill>
              <a:srgbClr val="ff0000"/>
            </a:solidFill>
            <a:prstDash val="lgDash"/>
            <a:miter/>
          </a:ln>
        </p:spPr>
        <p:txBody>
          <a:bodyPr anchor="t">
            <a:normAutofit/>
          </a:bodyPr>
          <a:p>
            <a:pPr marL="343080" indent="-343080">
              <a:lnSpc>
                <a:spcPts val="4799"/>
              </a:lnSpc>
              <a:spcBef>
                <a:spcPts val="700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介绍脑瘫致病因素、临床表现、预防措施 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ts val="4799"/>
              </a:lnSpc>
              <a:spcBef>
                <a:spcPts val="700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提倡早发现、早期综合干预 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ts val="4799"/>
              </a:lnSpc>
              <a:spcBef>
                <a:spcPts val="700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积极开展产前检查，防止感染性疾病发生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ts val="4799"/>
              </a:lnSpc>
              <a:spcBef>
                <a:spcPts val="700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避免早产、低体重儿和巨大儿出生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ts val="4799"/>
              </a:lnSpc>
              <a:spcBef>
                <a:spcPts val="700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指导正确进食姿势、正确抱姿、正确睡眠体位   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0" dur="indefinite" restart="never" nodeType="tmRoot">
          <p:childTnLst>
            <p:seq>
              <p:cTn id="701" dur="indefinite" nodeType="mainSeq">
                <p:childTnLst>
                  <p:par>
                    <p:cTn id="702" nodeType="clickEffect" fill="hold">
                      <p:stCondLst>
                        <p:cond delay="0"/>
                      </p:stCondLst>
                      <p:childTnLst>
                        <p:par>
                          <p:cTn id="7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6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2771640" y="259920"/>
            <a:ext cx="3500640" cy="87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华文新魏"/>
                <a:ea typeface="华文新魏"/>
              </a:rPr>
              <a:t>课程小结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82" name="灯片编号占位符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530B1-AB5E-46A6-9618-9CDCF2FA9E26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785520" y="1999800"/>
            <a:ext cx="7429320" cy="358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1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．脑瘫主要致病因素是脑缺氧或脑部血液灌注不足。胎儿宫内窘迫、早产儿、低出生体重儿、新生儿窒息、新生儿缺血缺氧性脑病等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2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．脑瘫所致的主要功能障碍有竖颈困难、流涎、咀嚼吞咽困难、平衡障碍、语言障碍、听觉障碍、视觉障碍、行为障碍、癫痫、感觉和认知障碍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>
              <a:lnSpc>
                <a:spcPts val="29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>
              <a:lnSpc>
                <a:spcPts val="29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矩形 1"/>
          <p:cNvSpPr/>
          <p:nvPr/>
        </p:nvSpPr>
        <p:spPr>
          <a:xfrm>
            <a:off x="900000" y="1484280"/>
            <a:ext cx="741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  <a:ea typeface="楷体"/>
              </a:rPr>
              <a:t>3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  <a:ea typeface="楷体"/>
              </a:rPr>
              <a:t>．康复护理评估包括健康状态、躯体功能、言语功能、感知及认知功能、日常生活活动能力、心理社会状况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  <a:ea typeface="楷体"/>
              </a:rPr>
              <a:t>4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  <a:ea typeface="楷体"/>
              </a:rPr>
              <a:t>．康复护理措施可根据脑瘫各型特点有针对性的进行异常姿势的矫正，防止关节强直挛缩发生；加强日常生活活动能力指导；早期语言刺激与干预；强化心理护理与自信心的培养，最大限度恢复心理、躯体功能，提高社会参与能力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矩形 1"/>
          <p:cNvSpPr/>
          <p:nvPr/>
        </p:nvSpPr>
        <p:spPr>
          <a:xfrm>
            <a:off x="900000" y="1916280"/>
            <a:ext cx="741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  <a:ea typeface="楷体"/>
              </a:rPr>
              <a:t>5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  <a:ea typeface="楷体"/>
              </a:rPr>
              <a:t>．康复护理指导包括介绍脑瘫致病因素、临床表现、治疗方法，预防措施；指导患儿家长如何控制脑瘫患儿的异常姿势、如何保持患儿正确进食姿势、指导家长对患儿的正确抱姿及正确的睡眠体位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BA5B4-D27F-4D8A-97AB-910A26B5C82E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/>
          </p:nvPr>
        </p:nvSpPr>
        <p:spPr>
          <a:xfrm>
            <a:off x="610920" y="1915920"/>
            <a:ext cx="810396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6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脑性瘫痪（</a:t>
            </a:r>
            <a:r>
              <a:rPr b="1" lang="en-US" sz="32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cerebral palsy, CP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简称脑瘫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ct val="16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定义：自受孕开始至婴儿期非进行性脑损伤和发育缺陷所导致的综合征，其主要表现为运动障碍及姿势异常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title"/>
          </p:nvPr>
        </p:nvSpPr>
        <p:spPr>
          <a:xfrm>
            <a:off x="2195280" y="836640"/>
            <a:ext cx="485748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2060"/>
                </a:solidFill>
                <a:latin typeface="华文新魏"/>
                <a:ea typeface="华文新魏"/>
              </a:rPr>
              <a:t>一、概 述</a:t>
            </a:r>
            <a:endParaRPr b="1" lang="en-US" sz="4000" spc="-1" strike="noStrike">
              <a:solidFill>
                <a:srgbClr val="00206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96CF7-3CC7-4248-9C93-7C4FFA5E7AF0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395280" y="1988640"/>
            <a:ext cx="8569440" cy="39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世界范围内</a:t>
            </a: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1.5‰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～</a:t>
            </a: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4‰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，平均为</a:t>
            </a: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2‰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。 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2013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年脑瘫流行病学调查：黑龙江、北京、山西、山东、青海、陕西、河南、安徽、重庆、湖南、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　广西、广东共涉及</a:t>
            </a: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32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万名</a:t>
            </a: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0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～</a:t>
            </a: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6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岁儿童患病率：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　青海最高</a:t>
            </a: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5.4‰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 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　山东最低</a:t>
            </a: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1.09‰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，平均</a:t>
            </a: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2.71‰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，黑龙江省为</a:t>
            </a: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1.89‰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title"/>
          </p:nvPr>
        </p:nvSpPr>
        <p:spPr>
          <a:xfrm>
            <a:off x="642600" y="785880"/>
            <a:ext cx="601668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2060"/>
                </a:solidFill>
                <a:latin typeface="华文新魏"/>
                <a:ea typeface="华文新魏"/>
              </a:rPr>
              <a:t>一、概 述</a:t>
            </a:r>
            <a:r>
              <a:rPr b="1" lang="en-US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—</a:t>
            </a: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脑瘫发病率</a:t>
            </a:r>
            <a:endParaRPr b="1" lang="en-US" sz="3200" spc="-1" strike="noStrike">
              <a:solidFill>
                <a:srgbClr val="00206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35EBA-49C7-4827-B6E5-839D1C139878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99680" y="571680"/>
            <a:ext cx="471492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一、概  述</a:t>
            </a:r>
            <a:r>
              <a:rPr b="1" lang="en-US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—</a:t>
            </a: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病因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59" name="Oval 4"/>
          <p:cNvSpPr/>
          <p:nvPr/>
        </p:nvSpPr>
        <p:spPr>
          <a:xfrm>
            <a:off x="3132000" y="1700280"/>
            <a:ext cx="2952720" cy="1008000"/>
          </a:xfrm>
          <a:prstGeom prst="ellipse">
            <a:avLst/>
          </a:prstGeom>
          <a:solidFill>
            <a:srgbClr val="ffffd5"/>
          </a:soli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华文新魏"/>
              </a:rPr>
              <a:t>脑缺氧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0" name="Oval 5"/>
          <p:cNvSpPr/>
          <p:nvPr/>
        </p:nvSpPr>
        <p:spPr>
          <a:xfrm>
            <a:off x="2987640" y="3141720"/>
            <a:ext cx="3240000" cy="1366920"/>
          </a:xfrm>
          <a:prstGeom prst="ellipse">
            <a:avLst/>
          </a:prstGeom>
          <a:solidFill>
            <a:srgbClr val="ffabe3"/>
          </a:solidFill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脑瘫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致病因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1" name="AutoShape 6"/>
          <p:cNvSpPr/>
          <p:nvPr/>
        </p:nvSpPr>
        <p:spPr>
          <a:xfrm>
            <a:off x="4500720" y="2708280"/>
            <a:ext cx="142560" cy="431640"/>
          </a:xfrm>
          <a:prstGeom prst="downArrow">
            <a:avLst>
              <a:gd name="adj1" fmla="val 50000"/>
              <a:gd name="adj2" fmla="val 7569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2" name="AutoShape 7"/>
          <p:cNvSpPr/>
          <p:nvPr/>
        </p:nvSpPr>
        <p:spPr>
          <a:xfrm>
            <a:off x="4572000" y="4508640"/>
            <a:ext cx="142920" cy="360360"/>
          </a:xfrm>
          <a:prstGeom prst="upArrow">
            <a:avLst>
              <a:gd name="adj1" fmla="val 50000"/>
              <a:gd name="adj2" fmla="val 63035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3" name="Oval 8"/>
          <p:cNvSpPr/>
          <p:nvPr/>
        </p:nvSpPr>
        <p:spPr>
          <a:xfrm>
            <a:off x="2484360" y="4941720"/>
            <a:ext cx="4319640" cy="1081080"/>
          </a:xfrm>
          <a:prstGeom prst="ellipse">
            <a:avLst/>
          </a:prstGeom>
          <a:solidFill>
            <a:srgbClr val="ffffd5"/>
          </a:soli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华文新魏"/>
              </a:rPr>
              <a:t>脑部血液灌注不足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49D56-8B45-4460-8F92-31CE277059BE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99680" y="571680"/>
            <a:ext cx="471492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一、概  述</a:t>
            </a:r>
            <a:r>
              <a:rPr b="1" lang="en-US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—</a:t>
            </a: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病因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66" name="Oval 4"/>
          <p:cNvSpPr/>
          <p:nvPr/>
        </p:nvSpPr>
        <p:spPr>
          <a:xfrm>
            <a:off x="3276720" y="1557360"/>
            <a:ext cx="2952720" cy="1008000"/>
          </a:xfrm>
          <a:prstGeom prst="ellipse">
            <a:avLst/>
          </a:prstGeom>
          <a:solidFill>
            <a:srgbClr val="e5ffff"/>
          </a:soli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胎儿发育迟缓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7" name="Oval 5"/>
          <p:cNvSpPr/>
          <p:nvPr/>
        </p:nvSpPr>
        <p:spPr>
          <a:xfrm>
            <a:off x="3276720" y="3141720"/>
            <a:ext cx="2663640" cy="1584360"/>
          </a:xfrm>
          <a:prstGeom prst="ellipse">
            <a:avLst/>
          </a:prstGeom>
          <a:solidFill>
            <a:srgbClr val="ffddff"/>
          </a:solidFill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华文新魏"/>
              </a:rPr>
              <a:t>脑瘫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华文新魏"/>
              </a:rPr>
              <a:t>主要因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" name="Oval 6"/>
          <p:cNvSpPr/>
          <p:nvPr/>
        </p:nvSpPr>
        <p:spPr>
          <a:xfrm>
            <a:off x="1187280" y="5084640"/>
            <a:ext cx="3456000" cy="1079640"/>
          </a:xfrm>
          <a:prstGeom prst="ellipse">
            <a:avLst/>
          </a:prstGeom>
          <a:solidFill>
            <a:srgbClr val="e5ffff"/>
          </a:soli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低血糖和高胆红素血症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9" name="Oval 7"/>
          <p:cNvSpPr/>
          <p:nvPr/>
        </p:nvSpPr>
        <p:spPr>
          <a:xfrm>
            <a:off x="468360" y="3789360"/>
            <a:ext cx="2303280" cy="1008000"/>
          </a:xfrm>
          <a:prstGeom prst="ellipse">
            <a:avLst/>
          </a:prstGeom>
          <a:solidFill>
            <a:srgbClr val="e5ffff"/>
          </a:soli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早产儿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0" name="Oval 8"/>
          <p:cNvSpPr/>
          <p:nvPr/>
        </p:nvSpPr>
        <p:spPr>
          <a:xfrm>
            <a:off x="6516720" y="3645000"/>
            <a:ext cx="2411280" cy="1079280"/>
          </a:xfrm>
          <a:prstGeom prst="ellipse">
            <a:avLst/>
          </a:prstGeom>
          <a:solidFill>
            <a:srgbClr val="e5ffff"/>
          </a:soli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新生儿窒息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1" name="Oval 9"/>
          <p:cNvSpPr/>
          <p:nvPr/>
        </p:nvSpPr>
        <p:spPr>
          <a:xfrm>
            <a:off x="684360" y="2276640"/>
            <a:ext cx="2592360" cy="1008000"/>
          </a:xfrm>
          <a:prstGeom prst="ellipse">
            <a:avLst/>
          </a:prstGeom>
          <a:solidFill>
            <a:srgbClr val="e5ffff"/>
          </a:soli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胎儿宫内窘迫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2" name="Oval 10"/>
          <p:cNvSpPr/>
          <p:nvPr/>
        </p:nvSpPr>
        <p:spPr>
          <a:xfrm>
            <a:off x="5867280" y="2205000"/>
            <a:ext cx="2952720" cy="1008000"/>
          </a:xfrm>
          <a:prstGeom prst="ellipse">
            <a:avLst/>
          </a:prstGeom>
          <a:solidFill>
            <a:srgbClr val="e5ffff"/>
          </a:soli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低出生体重儿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3" name="Oval 11"/>
          <p:cNvSpPr/>
          <p:nvPr/>
        </p:nvSpPr>
        <p:spPr>
          <a:xfrm>
            <a:off x="4859280" y="5157720"/>
            <a:ext cx="3529080" cy="1008000"/>
          </a:xfrm>
          <a:prstGeom prst="ellipse">
            <a:avLst/>
          </a:prstGeom>
          <a:solidFill>
            <a:srgbClr val="e5ffff"/>
          </a:soli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新生儿缺血缺氧性脑病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4" name="Line 12"/>
          <p:cNvSpPr/>
          <p:nvPr/>
        </p:nvSpPr>
        <p:spPr>
          <a:xfrm flipV="1">
            <a:off x="2771640" y="4076640"/>
            <a:ext cx="505080" cy="21600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5" name="Line 13"/>
          <p:cNvSpPr/>
          <p:nvPr/>
        </p:nvSpPr>
        <p:spPr>
          <a:xfrm>
            <a:off x="3203640" y="2997360"/>
            <a:ext cx="431640" cy="36036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6" name="Line 14"/>
          <p:cNvSpPr/>
          <p:nvPr/>
        </p:nvSpPr>
        <p:spPr>
          <a:xfrm>
            <a:off x="4643280" y="2565360"/>
            <a:ext cx="0" cy="57636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7" name="Line 15"/>
          <p:cNvSpPr/>
          <p:nvPr/>
        </p:nvSpPr>
        <p:spPr>
          <a:xfrm flipV="1">
            <a:off x="3780000" y="4724280"/>
            <a:ext cx="287280" cy="43344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8" name="Line 16"/>
          <p:cNvSpPr/>
          <p:nvPr/>
        </p:nvSpPr>
        <p:spPr>
          <a:xfrm flipH="1" flipV="1">
            <a:off x="5940000" y="4005000"/>
            <a:ext cx="576360" cy="14436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9" name="Line 17"/>
          <p:cNvSpPr/>
          <p:nvPr/>
        </p:nvSpPr>
        <p:spPr>
          <a:xfrm flipH="1" flipV="1">
            <a:off x="5219640" y="4652640"/>
            <a:ext cx="432000" cy="57636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0" name="Line 18"/>
          <p:cNvSpPr/>
          <p:nvPr/>
        </p:nvSpPr>
        <p:spPr>
          <a:xfrm flipH="1">
            <a:off x="5724000" y="2997360"/>
            <a:ext cx="360360" cy="43164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3571E-F7E6-4561-AEF0-36E9A43995E6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33000" y="549360"/>
            <a:ext cx="746748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一、概  述</a:t>
            </a:r>
            <a:r>
              <a:rPr b="1" lang="en-US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—</a:t>
            </a: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临床表现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83" name="Rectangle 4"/>
          <p:cNvSpPr/>
          <p:nvPr/>
        </p:nvSpPr>
        <p:spPr>
          <a:xfrm>
            <a:off x="250920" y="2997360"/>
            <a:ext cx="2089080" cy="863280"/>
          </a:xfrm>
          <a:prstGeom prst="rect">
            <a:avLst/>
          </a:prstGeom>
          <a:solidFill>
            <a:srgbClr val="ffe1ff"/>
          </a:solidFill>
          <a:ln w="28440">
            <a:solidFill>
              <a:srgbClr val="9966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4" name="Rectangle 5"/>
          <p:cNvSpPr/>
          <p:nvPr/>
        </p:nvSpPr>
        <p:spPr>
          <a:xfrm>
            <a:off x="2843280" y="2276640"/>
            <a:ext cx="2448000" cy="1081080"/>
          </a:xfrm>
          <a:prstGeom prst="rect">
            <a:avLst/>
          </a:prstGeom>
          <a:solidFill>
            <a:srgbClr val="cc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Arial"/>
                <a:ea typeface="华文新魏"/>
              </a:rPr>
              <a:t>中枢运动功能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5" name="Rectangle 6"/>
          <p:cNvSpPr/>
          <p:nvPr/>
        </p:nvSpPr>
        <p:spPr>
          <a:xfrm>
            <a:off x="2987640" y="4076640"/>
            <a:ext cx="2016000" cy="936720"/>
          </a:xfrm>
          <a:prstGeom prst="rect">
            <a:avLst/>
          </a:prstGeom>
          <a:solidFill>
            <a:srgbClr val="cc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Arial"/>
                <a:ea typeface="华文新魏"/>
              </a:rPr>
              <a:t>姿势异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6" name="AutoShape 7"/>
          <p:cNvSpPr/>
          <p:nvPr/>
        </p:nvSpPr>
        <p:spPr>
          <a:xfrm>
            <a:off x="2384280" y="2637000"/>
            <a:ext cx="316080" cy="2087280"/>
          </a:xfrm>
          <a:custGeom>
            <a:avLst/>
            <a:gdLst>
              <a:gd name="textAreaLeft" fmla="*/ 201960 w 316080"/>
              <a:gd name="textAreaRight" fmla="*/ 316440 w 316080"/>
              <a:gd name="textAreaTop" fmla="*/ 54360 h 2087280"/>
              <a:gd name="textAreaBottom" fmla="*/ 2032920 h 2087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7154"/>
                </a:lnTo>
                <a:cubicBezTo>
                  <a:pt x="10800" y="8054"/>
                  <a:pt x="5400" y="8954"/>
                  <a:pt x="0" y="8954"/>
                </a:cubicBezTo>
                <a:cubicBezTo>
                  <a:pt x="5400" y="8954"/>
                  <a:pt x="10800" y="9854"/>
                  <a:pt x="10800" y="10754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7" name="Rectangle 8"/>
          <p:cNvSpPr/>
          <p:nvPr/>
        </p:nvSpPr>
        <p:spPr>
          <a:xfrm>
            <a:off x="5867280" y="1844640"/>
            <a:ext cx="2448000" cy="4176720"/>
          </a:xfrm>
          <a:prstGeom prst="rect">
            <a:avLst/>
          </a:prstGeom>
          <a:solidFill>
            <a:srgbClr val="ffffeb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可伴有不同程度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智力障碍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言语障碍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视听觉障碍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感知觉障碍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癫痫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心理行为异常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8" name="AutoShape 9"/>
          <p:cNvSpPr/>
          <p:nvPr/>
        </p:nvSpPr>
        <p:spPr>
          <a:xfrm>
            <a:off x="5435640" y="2565360"/>
            <a:ext cx="288720" cy="2448000"/>
          </a:xfrm>
          <a:custGeom>
            <a:avLst/>
            <a:gdLst>
              <a:gd name="textAreaLeft" fmla="*/ 0 w 288720"/>
              <a:gd name="textAreaRight" fmla="*/ 104040 w 288720"/>
              <a:gd name="textAreaTop" fmla="*/ 63720 h 2448000"/>
              <a:gd name="textAreaBottom" fmla="*/ 2384280 h 24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5D949-6EA4-48A2-9C07-4A5B1147908F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68000" y="620640"/>
            <a:ext cx="7559640" cy="720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一、概  述</a:t>
            </a:r>
            <a:r>
              <a:rPr b="1" lang="en-US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—</a:t>
            </a: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临床表现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91" name="Rectangle 4"/>
          <p:cNvSpPr/>
          <p:nvPr/>
        </p:nvSpPr>
        <p:spPr>
          <a:xfrm>
            <a:off x="1187280" y="2924280"/>
            <a:ext cx="2089440" cy="1008000"/>
          </a:xfrm>
          <a:prstGeom prst="rect">
            <a:avLst/>
          </a:prstGeom>
          <a:solidFill>
            <a:srgbClr val="ffe5ff"/>
          </a:solidFill>
          <a:ln w="28440">
            <a:solidFill>
              <a:srgbClr val="9966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临床分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2" name="Rectangle 5"/>
          <p:cNvSpPr/>
          <p:nvPr/>
        </p:nvSpPr>
        <p:spPr>
          <a:xfrm>
            <a:off x="4427640" y="2133720"/>
            <a:ext cx="3600360" cy="3816360"/>
          </a:xfrm>
          <a:prstGeom prst="rect">
            <a:avLst/>
          </a:prstGeom>
          <a:solidFill>
            <a:srgbClr val="e1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①</a:t>
            </a: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痉挛型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②</a:t>
            </a: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不随意运动型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③</a:t>
            </a: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强直型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④</a:t>
            </a: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共济失调型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⑤</a:t>
            </a: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肌张力低下型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⑥</a:t>
            </a: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混合型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3" name="AutoShape 6"/>
          <p:cNvSpPr/>
          <p:nvPr/>
        </p:nvSpPr>
        <p:spPr>
          <a:xfrm>
            <a:off x="3492360" y="3357720"/>
            <a:ext cx="792360" cy="215640"/>
          </a:xfrm>
          <a:prstGeom prst="rightArrow">
            <a:avLst>
              <a:gd name="adj1" fmla="val 50000"/>
              <a:gd name="adj2" fmla="val 91861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赵欣</cp:lastModifiedBy>
  <dcterms:modified xsi:type="dcterms:W3CDTF">2015-12-15T09:16:56Z</dcterms:modified>
  <cp:revision>8</cp:revision>
  <dc:subject/>
  <dc:title>第一章 儿科疾病的护理</dc:title>
</cp:coreProperties>
</file>